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710-FF9C-4C02-B912-1105D2C2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0EB-0F60-4AE9-856C-8A9EE7CE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F92-97D0-4076-82E0-7DB302A7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422-FFA8-45CE-B0BD-D2419B3E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7D4E-C510-4214-AA1F-F3E1D4F2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328C-DBBB-43CD-BDBA-973A0ECC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CDA4-6E15-46FD-843E-7ED01DC5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8AA7-B1CC-482D-BF78-1A03FF75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7534-59CF-4A95-97A0-3E187CF6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CDE9-C746-4A41-99BD-94FAD1CD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CBE0-3DC0-484F-A432-914FF0A4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9FF-7C45-4B9D-9A09-ACA6B2BE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C761-1512-4761-B041-BC9D2AC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4A6D-00F1-4D98-B26C-96CB38D6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649F-EF33-44DE-B471-350B8D53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B5E1-A6F2-4F0B-A273-83E56818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191E-44FA-4A22-9C71-54193407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891-6A6A-40EA-9B42-0B5A33E2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90A-E188-4BF0-8692-BA8D0BEC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56F-AAAB-4B14-BDE7-469C9D4D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1A5-C382-490C-A4B3-5E548AE9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162-9FB9-4086-91BD-33F9CDF1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403-F256-4617-835B-E39785A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190-250C-40D3-93F9-A15AEEAD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F654-8661-428B-9486-179CCDCE9A63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7257-98D8-4A14-9AD6-D3E89C26486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3366"/>
                </a:solidFill>
                <a:latin typeface="Arial"/>
              </a:rPr>
              <a:t>Transparante Foutentolerantie voor Mobiele Multi-Agent-System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66"/>
                </a:solidFill>
                <a:latin typeface="Arial"/>
              </a:rPr>
              <a:t>Pieter Verheyd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6666"/>
                </a:solidFill>
                <a:latin typeface="Arial"/>
              </a:rPr>
              <a:t>Promotor: Prof. Dr. Theo D’Hondt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Sprei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Startpunt = netwerkcomputer binnen 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Referentiepunt = nameserver/router 1 stap ho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Elke replicamanager blijft op het startp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1 random-gekozen replica van elke replicagroep blijft op het startp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1 random-gekozen helft wordt verspreid binnen de 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Andere helft wordt verspreid buiten de LAN, onder het referentiep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395-37D8-4BC2-AE4F-FCB77C0E05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Replicamanager</a:t>
            </a: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Agent die alle replica’s van 1 applicatie-agent beheert en volledig kan herstell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Referentie van de replicagro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Functionaliteit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Doorsturen en onderscheppen van berich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Parsen en aanpassen van berich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Onderscheppen van agent-creat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Detecteren en herstellen van uitgevallen replica’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1F1-4686-414F-B9A3-DC8CD4E75E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Geen parsing/aanpassing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4343400"/>
            <a:ext cx="685800" cy="6858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4419720"/>
            <a:ext cx="3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4343400"/>
            <a:ext cx="685800" cy="6858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41972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2767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7242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2767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54100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38098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7242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54100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35280" y="33526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44560" y="38862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44560" y="4800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3000" y="54864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51560" y="3352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65960" y="388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65960" y="4800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5486400"/>
            <a:ext cx="5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3200400"/>
            <a:ext cx="2438280" cy="297180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200400"/>
            <a:ext cx="2438640" cy="297180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6880" y="617220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Replicagroep 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86720" y="617220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Replicagroep 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3886200"/>
            <a:ext cx="30456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038480"/>
            <a:ext cx="30492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4648320"/>
            <a:ext cx="304560" cy="304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257800"/>
            <a:ext cx="30492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267080"/>
            <a:ext cx="30456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2040" y="388620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A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4038480"/>
            <a:ext cx="38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A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57640" y="4648320"/>
            <a:ext cx="3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A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95720" y="5257800"/>
            <a:ext cx="3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A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6440" y="4267080"/>
            <a:ext cx="3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0000"/>
                </a:solidFill>
                <a:latin typeface="Tahoma"/>
              </a:rPr>
              <a:t>A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4648320"/>
            <a:ext cx="12952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3480" y="33526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3962520"/>
            <a:ext cx="15264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267080"/>
            <a:ext cx="685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362320" y="4800240"/>
            <a:ext cx="68580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48120" y="5029200"/>
            <a:ext cx="22860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410080" y="3886200"/>
            <a:ext cx="22860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715000" y="4266720"/>
            <a:ext cx="68580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4800600"/>
            <a:ext cx="68580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5029200"/>
            <a:ext cx="22860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126-F0A2-4A83-B6AF-4354B4C8AC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Geen parsing/aanpassing (c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4343400"/>
            <a:ext cx="685800" cy="6858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4419720"/>
            <a:ext cx="3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4343400"/>
            <a:ext cx="685800" cy="6858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441972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32767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47242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32767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54100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8098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47242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54100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35280" y="33526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4560" y="38862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44560" y="4800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83000" y="54864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51560" y="3352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5960" y="388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65960" y="4800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5486400"/>
            <a:ext cx="5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3200400"/>
            <a:ext cx="2438280" cy="297180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200400"/>
            <a:ext cx="2438640" cy="297180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6880" y="617220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Replicagroep 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86720" y="617220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Replicagroep 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3886200"/>
            <a:ext cx="30492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572000"/>
            <a:ext cx="30456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5105520"/>
            <a:ext cx="304920" cy="304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76800" y="3886200"/>
            <a:ext cx="3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A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86640" y="4114800"/>
            <a:ext cx="3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A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5240" y="4572000"/>
            <a:ext cx="3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A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3120" y="5105520"/>
            <a:ext cx="3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A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4648320"/>
            <a:ext cx="129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3352680"/>
            <a:ext cx="3049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3200400"/>
            <a:ext cx="30456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78800" y="3352680"/>
            <a:ext cx="25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88240" y="3200400"/>
            <a:ext cx="2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3962520"/>
            <a:ext cx="15264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4267080"/>
            <a:ext cx="68580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62320" y="4800240"/>
            <a:ext cx="6858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048120" y="5029200"/>
            <a:ext cx="22860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410080" y="3886200"/>
            <a:ext cx="22860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15000" y="4266720"/>
            <a:ext cx="685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800600"/>
            <a:ext cx="68580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5029200"/>
            <a:ext cx="22860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352320" y="358128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705720" y="29718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048120" y="2971800"/>
            <a:ext cx="365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29718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5105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620120" y="2666880"/>
            <a:ext cx="0" cy="243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895480" y="2666880"/>
            <a:ext cx="472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26668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579132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924680" y="2438280"/>
            <a:ext cx="0" cy="335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819160" y="2438280"/>
            <a:ext cx="5105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24382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4724280"/>
            <a:ext cx="3049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01000" y="4267080"/>
            <a:ext cx="3049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83720" y="4724280"/>
            <a:ext cx="2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98120" y="4267080"/>
            <a:ext cx="2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45E-2C3A-4C3A-8DCD-4224D03194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Replica’s</a:t>
            </a: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Actieve replica van 1 applicatie-agent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Runnen van de applica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Extra functionaliteit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Berichten enkel naar replicamanager st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Acknowledge-communicatie na het afhandelen van berich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Detecteren en volledig herstellen van uitgevallen replicamana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A05-7245-48AB-90E7-99E65D1660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Toegevoegde acknowled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Probleem: replicamanager ontvangt bericht en valt dan u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Oplossing: acknowledge-communicatie tussen replicamanag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Berichten worden bijgehouden totdat acknowledge-bericht ontvangen 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C79-63B0-41B2-B429-3F6DD66935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Resulta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We hebben aangetoond dat foutentolerantie mogelijk is a.d.h.v. een theoretisch model en toegevoegde experimenten in B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Robust en flexibel systeem door replicatie en migratie van age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Transparante wer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673-F55A-4F88-92EF-ED93F3D784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Resultaten (cnt.)</a:t>
            </a: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Betrouwbaar doordat er geen berichten verloren 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Partial failures kunnen geheel opgevangen worden of geheel niet opgeva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FDF-164A-4EBC-826E-FF2FF237BD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Conclus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We hebben het doel berei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We hebben ondervond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Pico laat parsen en aanpassen van berichten toe, en het inladen van extra code in agent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Door de sterke migratie van Borg kunnen agenten verspreid worden over het netwerk voor een robuste beginsituat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F60-353A-4C7C-BA0F-9A0B5A203A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Voortzetting</a:t>
            </a: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Total failure is nog steeds een probleem en is te wijten aan de nameserver/rou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Toevoegen van passieve replicatie voor ondersteuning va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Agenten met I/O-ta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Agenten met niet-deterministische func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AC5-609F-49CA-A562-84FCF286B3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Overzi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Context: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 mobiel multi-agent-syste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Probleemschetsing: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 partial fail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Doel: 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opvangen van partial fail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Methoden: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 replicatie en transparant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Oplossingen: 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foutentolerantiesyste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Resulta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Conclus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Voorzet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BD7-095C-4D84-B77C-FE497460B8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Mobiel multi-agent-syste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Borg als case stu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Agenten versus objec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Sterke mobilite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Applicaties bestaan uit interagerende age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Gedistribueerde applicaties werken met client-server-hiërarchie of peer-to-pe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B02-BC2E-4BBF-B58F-A732BA94C0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Probleemschet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Partial failures van het netwe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Failures in communicat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Failures van proces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Veroorzaken onbepaald gedrag van runnende gedistribueerde applica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896-2CA2-444B-BF5D-64E6AE5C15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oel van deze the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Partial failures van het netwerk opvangen tijdens het runnen van gedistribueerde applicaties in het mobiel multi-agent-systeem B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Ontwerpen van een foutentolerantiesysteem dat dit verwezenlij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155-7BCC-4CDD-ABBA-D0E4FD2D4D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Methoden</a:t>
            </a: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5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Gekende replicatietechnie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Transparante wer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Applicatieprogrammeur moet zelf niet voor foutentolerantie insta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Bestaande applicaties moeten niet aangepast wor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omplexiteit van applicaties wordt niet onnodig verhoog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Geen aanpassingen aan de virtuele mach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419-F362-4278-AC34-CFAED93F47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Terminologie</a:t>
            </a: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Passieve replica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Actieve replica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Replicagro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1 replicamana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Meerdere replica’s van 1 applicatie-ag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Consisten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16C-FBC7-4AC0-A40F-2F0C0564A1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Overzi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Drie opeenvolgende fas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Overname van elke applicatie-agent door 1 replica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Spreiding van replica’s over het netwe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Runnen van de applicatie in het foutentolerantiesyste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1DF-C094-4564-9345-B802BA36CC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Overna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4382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43828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819520"/>
            <a:ext cx="1371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3" idx="0"/>
            <a:endCxn id="113" idx="1"/>
          </p:cNvCxnSpPr>
          <p:nvPr/>
        </p:nvCxnSpPr>
        <p:spPr>
          <a:xfrm>
            <a:off x="3962520" y="2819160"/>
            <a:ext cx="137232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3424680" y="25146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8840" y="25146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2767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419720"/>
            <a:ext cx="685800" cy="6858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495680"/>
            <a:ext cx="3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419720"/>
            <a:ext cx="685800" cy="6858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49568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8" idx="6"/>
            <a:endCxn id="120" idx="2"/>
          </p:cNvCxnSpPr>
          <p:nvPr/>
        </p:nvCxnSpPr>
        <p:spPr>
          <a:xfrm>
            <a:off x="3981600" y="4762080"/>
            <a:ext cx="1334160" cy="1080"/>
          </a:xfrm>
          <a:prstGeom prst="straightConnector1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819520" y="35053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1911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502920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55627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41911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51055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5562720"/>
            <a:ext cx="6858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87560" y="35812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5800" y="42670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54400" y="51055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92480" y="56386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A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32440" y="3581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18240" y="4267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89640" y="51814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75240" y="5638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Tahoma"/>
              </a:rPr>
              <a:t>B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895480" y="4952520"/>
            <a:ext cx="38124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0"/>
            <a:endCxn id="139" idx="0"/>
          </p:cNvCxnSpPr>
          <p:nvPr/>
        </p:nvCxnSpPr>
        <p:spPr>
          <a:xfrm flipH="1">
            <a:off x="2895120" y="4952520"/>
            <a:ext cx="380160" cy="22932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743200" y="4572000"/>
            <a:ext cx="53352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0"/>
            <a:endCxn id="141" idx="0"/>
          </p:cNvCxnSpPr>
          <p:nvPr/>
        </p:nvCxnSpPr>
        <p:spPr>
          <a:xfrm flipH="1" flipV="1">
            <a:off x="2742840" y="4572000"/>
            <a:ext cx="534240" cy="7668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276720" y="4114800"/>
            <a:ext cx="228600" cy="3808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04960" y="5105520"/>
            <a:ext cx="7596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0"/>
            <a:endCxn id="144" idx="0"/>
          </p:cNvCxnSpPr>
          <p:nvPr/>
        </p:nvCxnSpPr>
        <p:spPr>
          <a:xfrm flipV="1">
            <a:off x="3504960" y="5104800"/>
            <a:ext cx="76680" cy="45612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1828800" y="3352680"/>
            <a:ext cx="2438280" cy="297180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4114440"/>
            <a:ext cx="22860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0"/>
            <a:endCxn id="147" idx="1"/>
          </p:cNvCxnSpPr>
          <p:nvPr/>
        </p:nvCxnSpPr>
        <p:spPr>
          <a:xfrm flipV="1">
            <a:off x="5791320" y="4114080"/>
            <a:ext cx="227520" cy="30564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 flipV="1">
            <a:off x="6019920" y="4572000"/>
            <a:ext cx="53316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9" idx="1"/>
          </p:cNvCxnSpPr>
          <p:nvPr/>
        </p:nvCxnSpPr>
        <p:spPr>
          <a:xfrm flipV="1">
            <a:off x="6019560" y="4572000"/>
            <a:ext cx="532440" cy="7668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5943600" y="4952880"/>
            <a:ext cx="4572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1" idx="0"/>
            <a:endCxn id="151" idx="1"/>
          </p:cNvCxnSpPr>
          <p:nvPr/>
        </p:nvCxnSpPr>
        <p:spPr>
          <a:xfrm>
            <a:off x="5943600" y="4952520"/>
            <a:ext cx="457920" cy="22932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5638680" y="5105520"/>
            <a:ext cx="7632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0"/>
            <a:endCxn id="153" idx="1"/>
          </p:cNvCxnSpPr>
          <p:nvPr/>
        </p:nvCxnSpPr>
        <p:spPr>
          <a:xfrm>
            <a:off x="5638680" y="5105520"/>
            <a:ext cx="76680" cy="45792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029200" y="3352680"/>
            <a:ext cx="2438280" cy="297180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87760" y="632448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Replicagroep 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86720" y="632448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Tahoma"/>
              </a:rPr>
              <a:t>Replicagroep 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175-7E1D-4D94-971A-3425D6FA47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19:35:23Z</dcterms:created>
  <dc:creator>blah</dc:creator>
  <dc:description/>
  <dc:language>en-US</dc:language>
  <cp:lastModifiedBy>blah</cp:lastModifiedBy>
  <dcterms:modified xsi:type="dcterms:W3CDTF">2002-06-20T16:31:01Z</dcterms:modified>
  <cp:revision>241</cp:revision>
  <dc:subject/>
  <dc:title>Transparante Foutentolerantie voor Mobiele Multi-Agent-Systemen</dc:title>
</cp:coreProperties>
</file>